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13720"/>
        <c:axId val="81049086"/>
      </c:barChart>
      <c:catAx>
        <c:axId val="74513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9086"/>
        <c:crosses val="autoZero"/>
        <c:auto val="1"/>
        <c:lblAlgn val="ctr"/>
        <c:lblOffset val="100"/>
        <c:noMultiLvlLbl val="0"/>
      </c:catAx>
      <c:valAx>
        <c:axId val="81049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13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91C-3808-450A-B5A3-301D71D3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DFD-8B03-4D00-B506-909CF9D7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C81-8E16-4ACA-B45A-E4655004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9D2-3C08-4CF4-A456-8D6C698C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BFD-0ACC-46C2-9071-58F0D7D6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B9E-C84F-4AAB-A13C-814D6B29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42D-B37B-45C9-BE93-3116A4A4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774-707A-45C9-8BD8-4D617DEF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DBB-6E41-4DCD-AA82-26B69387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550-CA49-412C-985D-8F83A20A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883-6B3F-41EF-97CF-CB230B1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A9D-7A66-4233-9C1A-24C2CB84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C2243-52F8-45A1-A903-B402B034BD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