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946652"/>
        <c:axId val="49424845"/>
      </c:barChart>
      <c:catAx>
        <c:axId val="639466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24845"/>
        <c:crosses val="autoZero"/>
        <c:auto val="1"/>
        <c:lblAlgn val="ctr"/>
        <c:lblOffset val="100"/>
        <c:noMultiLvlLbl val="0"/>
      </c:catAx>
      <c:valAx>
        <c:axId val="494248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466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F85A-8D53-418B-B1A3-9A9A3E8ED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2898-71F9-4D06-9234-B098A0D5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F2EE-1F38-4753-8431-92E1CE40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10FE-E534-4A7E-8B02-5D1308A4F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5D6A-2FB6-470A-BC1B-5EA45CB7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F84F-FC9F-4D31-866D-72BF2CEF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3199-92E5-4BCF-A9F1-428E0D62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9E18-78F5-4ACF-BD6F-DFDA8264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5A2C-E7BC-486A-8269-D5AF8BC7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7EAC-9690-466C-8411-8D38B8A6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96BC-C56B-4C48-A8D5-9AEC981B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70DD-6A1B-40DA-8607-BEF6495D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739275-4699-4C26-B3F0-552A77A1D7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