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2691223"/>
        <c:axId val="22853172"/>
      </c:barChart>
      <c:catAx>
        <c:axId val="9269122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853172"/>
        <c:crosses val="autoZero"/>
        <c:auto val="1"/>
        <c:lblAlgn val="ctr"/>
        <c:lblOffset val="100"/>
        <c:noMultiLvlLbl val="0"/>
      </c:catAx>
      <c:valAx>
        <c:axId val="2285317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69122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D6F0F-6DA8-4901-BEBF-36CB77E6D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89736-C263-48F4-B22E-352041ABF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B10A9-B3A5-4182-AAF6-DF786F609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711FE-348E-40ED-9949-9AC58FDC3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9FD0E-8494-4FDD-85C2-D0A96B7BA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B967B-D94F-41D9-9201-827B62753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9AED0-8BC7-4E03-92E9-635304016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1A830-5E86-4E90-922D-D255A5CE6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5D9D9-4677-49E2-8049-1F3908726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24C0F-9C47-4D06-81A5-DA4B5696E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47398-5BB6-4EE3-A6BC-8D2253B3D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59C5E-1C9B-4519-BBE2-4DE8A8B50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86F14A-2A8A-4D79-B090-A1FC7897383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