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83807"/>
        <c:axId val="72587946"/>
      </c:barChart>
      <c:catAx>
        <c:axId val="10783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87946"/>
        <c:crosses val="autoZero"/>
        <c:auto val="1"/>
        <c:lblAlgn val="ctr"/>
        <c:lblOffset val="100"/>
        <c:noMultiLvlLbl val="0"/>
      </c:catAx>
      <c:valAx>
        <c:axId val="7258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83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F6A-075E-470A-8CED-4195716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C8D-B5E0-42C8-A23E-64C97433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E4E-E066-427D-BD48-ECF5981A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04D-B428-4DB3-8155-3BFE87B1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5FA-F319-4AFA-8D9C-495E4776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8A8-BC0D-498D-B489-01300E4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B0C-C440-473F-B6DF-C6D5604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B8F-B78D-4F4F-8286-B6EE09EA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DA5-C0F6-4943-8981-ECE388BC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9FB-B4C9-47A7-AD26-0CD7AD5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CAF-60BB-43E6-B4F4-7EB5D53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B4C-3C81-4363-8157-56FDE18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FE831-ECEF-4D5D-B7BF-0AFB24AA20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