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67583"/>
        <c:axId val="82117858"/>
      </c:barChart>
      <c:catAx>
        <c:axId val="898675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17858"/>
        <c:crosses val="autoZero"/>
        <c:auto val="1"/>
        <c:lblAlgn val="ctr"/>
        <c:lblOffset val="100"/>
        <c:noMultiLvlLbl val="0"/>
      </c:catAx>
      <c:valAx>
        <c:axId val="82117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675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FA3-BBB6-4ED0-9F3D-37BE6164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0C7-6962-4BEF-AC90-1CC2457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C60-7C83-4E82-9394-8CD7890C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18B-1034-416B-B0C6-C53BE481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D96-B95E-49E7-8C87-DDC63CD9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B16-3C1C-4E92-8C6B-A291F102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5A50-FA10-47A0-8F48-E0374C5D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EC15-1D60-4BDA-9100-C7080728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43A-C185-4E8C-96B3-3DB9ED6C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F0D-EA7E-4449-9450-B58CA787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A42-3624-4182-BE6D-13A8C67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2D0D-5EA9-4404-AFAF-EE93B523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15699-31A1-48DF-ACAC-2926E0EC3D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