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79533"/>
        <c:axId val="54228722"/>
      </c:barChart>
      <c:catAx>
        <c:axId val="620795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28722"/>
        <c:crosses val="autoZero"/>
        <c:auto val="1"/>
        <c:lblAlgn val="ctr"/>
        <c:lblOffset val="100"/>
        <c:noMultiLvlLbl val="0"/>
      </c:catAx>
      <c:valAx>
        <c:axId val="54228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795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332F-27C8-4F21-9B09-FF1BD18F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B61-8601-4A6F-9CAC-0AA3B0F9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C3C-B290-4CD2-9049-B9F8E88D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57C-43D3-4746-82DE-AE0508BB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852-6CBF-4350-B88A-63FCE69D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C63-764D-486D-BECA-493B5E3C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FF3-7C37-4B9A-8B11-8666708C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659-5662-4096-A146-677148CC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DC6-CA1C-4DC9-A654-E4B7E813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871-F295-4AF8-A857-3077620E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08D-6C9F-43B0-BDF2-86DAFE31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FE0-F80E-4D78-8B2C-BD3D3F9D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8C3DE-4715-4BBC-9E07-68821B3844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