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92383"/>
        <c:axId val="21899562"/>
      </c:barChart>
      <c:catAx>
        <c:axId val="99792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99562"/>
        <c:crosses val="autoZero"/>
        <c:auto val="1"/>
        <c:lblAlgn val="ctr"/>
        <c:lblOffset val="100"/>
        <c:noMultiLvlLbl val="0"/>
      </c:catAx>
      <c:valAx>
        <c:axId val="21899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92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923-BD9D-4A3D-A5C2-F6B2A897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FEF-A00A-4ED6-ACB5-FCCA538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4B1-0F9E-4E66-AAD9-AB645D3E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05A-59CA-402A-8850-ECB8FAB6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98B-1C88-48B2-AEE3-D1BD58DD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A78-9148-4D2D-B3B9-E8D0D637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32B-6151-4292-85C9-020C10A6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7DA-410D-4B77-891D-BE599D42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F63-AA84-4130-9469-276C49BB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688-E980-475D-8E26-5B7EEF05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C52-E2E3-46F9-A648-74400175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391-2E12-48FB-BABA-D77F7EA9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93945-993B-4CDC-80B8-1316827C75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