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10972"/>
        <c:axId val="83835838"/>
      </c:barChart>
      <c:catAx>
        <c:axId val="44610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35838"/>
        <c:crosses val="autoZero"/>
        <c:auto val="1"/>
        <c:lblAlgn val="ctr"/>
        <c:lblOffset val="100"/>
        <c:noMultiLvlLbl val="0"/>
      </c:catAx>
      <c:valAx>
        <c:axId val="83835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0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7D2-2B07-4326-8F4B-B5885E61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342-712E-453F-AFF9-B64BEA9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CE8-C291-4A8F-B700-4ACC482F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FBA-81B2-4A00-9D4F-F51660C2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961-4B4B-46B0-A096-4B920D2B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3FC-FD4E-4F8E-A455-800DF598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577-688C-4C8D-884D-4A8C90BB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BFD-CB76-42DC-AAD4-426B9D4A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8D1-E05F-41D6-824C-D56366F2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994-CDCE-4FEF-B9A0-D19CD1C5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94D-38EF-42FB-BDA2-4682FE6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F5A-CEB8-43E5-ABA2-36E2466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5E031-043F-46A8-91F1-FD3A2E7E5F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