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97043"/>
        <c:axId val="24935906"/>
      </c:barChart>
      <c:catAx>
        <c:axId val="73697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35906"/>
        <c:crosses val="autoZero"/>
        <c:auto val="1"/>
        <c:lblAlgn val="ctr"/>
        <c:lblOffset val="100"/>
        <c:noMultiLvlLbl val="0"/>
      </c:catAx>
      <c:valAx>
        <c:axId val="24935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97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8AA-B122-4D4E-BBA7-81E0C686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240-4FF0-442B-A9AA-7099B3A3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240-5758-45E6-AE5A-C8D42B1F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D5A-3C83-4F5A-98F5-AEA697A6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939-2BD8-4783-8A10-33F5B15E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FF3-7739-41EB-845E-E7BDF728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36E-F93A-48FB-9B1F-1DF5BBEC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C71-5F97-4299-B5E0-12BD79E6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44FF-2BCD-4204-AC96-08129514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971-28BE-45A8-A484-D9E80A67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460-4B5D-465B-8EF0-5470BFF5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E90-3738-42ED-A9EA-7B30ED67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79785-A276-4FA5-9915-98EF10164E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