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9044083"/>
        <c:axId val="23241454"/>
      </c:barChart>
      <c:catAx>
        <c:axId val="8904408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241454"/>
        <c:crosses val="autoZero"/>
        <c:auto val="1"/>
        <c:lblAlgn val="ctr"/>
        <c:lblOffset val="100"/>
        <c:noMultiLvlLbl val="0"/>
      </c:catAx>
      <c:valAx>
        <c:axId val="232414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904408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332A32-820C-44C9-BEE8-F21AFEB0F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7DCE39-4AB6-423B-96F8-FDC99E3A45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F7F24-E994-401E-96D7-9C82711AD4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262032-5EC5-46E3-8223-2ECEB52740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7C345-B516-4A58-AF21-96649FB6AB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9D96C-9E0C-4CF7-BA54-8B8E570118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237D1-DC07-4B7A-9B95-F55EF3A348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54D5DD-4CAF-4372-BE9E-93312132C4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37FB4-391E-4250-AEE8-BC5E454AE8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547FE-8E53-4B3A-81DD-6A6E9E7F9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F61F0-AA02-4094-9C0A-D02F665D47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78638-DA96-4F47-9A6D-D507AAE68D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0E93D28-2204-451B-AC21-7AB859E77A2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