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68654"/>
        <c:axId val="71453602"/>
      </c:barChart>
      <c:catAx>
        <c:axId val="9696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53602"/>
        <c:crosses val="autoZero"/>
        <c:auto val="1"/>
        <c:lblAlgn val="ctr"/>
        <c:lblOffset val="100"/>
        <c:noMultiLvlLbl val="0"/>
      </c:catAx>
      <c:valAx>
        <c:axId val="71453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6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BFE-2F7B-4505-9047-CB93BDB8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904-62B1-4389-94CB-3ACB8942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DD5-8567-4197-8F75-16DD69CE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548-FD8F-4ADD-A011-899BFEF1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13B-AE2D-4A9E-8E9D-4D51567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9B5-7751-482E-9CFA-2AD610F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1F7-7EB0-4E1C-92F9-0B696CA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92D-2A94-4C76-8705-03352AEF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3C0-28EE-41AA-B250-5D143EA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840-DE45-4C1E-A94B-296A8D6E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006-DBD9-4B5C-9F5E-A5D3C0C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520-F8F7-479C-89C2-FBF4F65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AA6FD-464F-45FC-A86D-1DAFE4D247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