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12383"/>
        <c:axId val="50152367"/>
      </c:barChart>
      <c:catAx>
        <c:axId val="93412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2367"/>
        <c:crosses val="autoZero"/>
        <c:auto val="1"/>
        <c:lblAlgn val="ctr"/>
        <c:lblOffset val="100"/>
        <c:noMultiLvlLbl val="0"/>
      </c:catAx>
      <c:valAx>
        <c:axId val="50152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12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6B9-02A6-4623-B3AA-5CE9EF36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31A-1F20-48BD-A694-213332DB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602-524A-4536-90A7-EFB04B0D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66B-B22A-48FB-A54E-9A265167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E78-B81B-4BAD-AE2A-1A00FB92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262-C298-47C3-8499-769D9DFE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8F2-5BFD-4D7F-8881-004DB7B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7F6-DB2A-4088-AF24-8A8BB912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EF7-DF82-4A7D-9A48-A3FB0CF7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1D4-E928-4F51-B93C-6478F4C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5B8-943B-4F92-82D8-5D334D9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5E2-6334-4842-91EE-683F6D38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8F26D-C2B6-498C-B263-F6F756E6C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