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56231"/>
        <c:axId val="43586329"/>
      </c:barChart>
      <c:catAx>
        <c:axId val="34956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86329"/>
        <c:crosses val="autoZero"/>
        <c:auto val="1"/>
        <c:lblAlgn val="ctr"/>
        <c:lblOffset val="100"/>
        <c:noMultiLvlLbl val="0"/>
      </c:catAx>
      <c:valAx>
        <c:axId val="43586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6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F96-4A03-4355-AA79-DDB29177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A58-C21D-436E-97C0-EC9758C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CAD-AA84-4177-AA10-6B85947F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B14-3FAA-4EB4-9213-0800D5C4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BF6-F371-474D-A871-66429F78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453-D340-425E-A6DA-E3C06F2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FDC-0A7B-4F4C-AF72-0D88C96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B8C-D539-420C-87F4-6FC893A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CDE-D0BB-4480-BD1F-B9C27C11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EDB-B9A3-4082-B37D-6CAA719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9D4-2D1D-472C-9CAD-15970FA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50C-38B2-4447-AC03-C6529EF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ACC12-9928-4068-BFF4-1E8BDAB262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