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99813"/>
        <c:axId val="39775981"/>
      </c:barChart>
      <c:catAx>
        <c:axId val="87599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75981"/>
        <c:crosses val="autoZero"/>
        <c:auto val="1"/>
        <c:lblAlgn val="ctr"/>
        <c:lblOffset val="100"/>
        <c:noMultiLvlLbl val="0"/>
      </c:catAx>
      <c:valAx>
        <c:axId val="39775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99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E20-E5FD-4720-A14D-48044830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E38-0367-4205-AC86-2ADB3D5C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E0B-0917-4B0D-9FA3-2DEE259A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BDB-767B-406C-A75D-25430D55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CB7-D4FB-4115-B34C-50DD88E8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F5D-B2ED-4799-9223-96489812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5FE-0135-4A10-A52C-6CC5FA14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693-1DFC-4D92-9753-00687FDA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31D-4DCD-4410-98FB-882BC8D8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14E-8C12-4FEF-9714-C3E10858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64C-44F2-479E-A101-8810167A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B59-FC5A-491D-9A2B-300E32A1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8E942-29AB-49DE-99DD-2923129E28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