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61971"/>
        <c:axId val="13507284"/>
      </c:barChart>
      <c:catAx>
        <c:axId val="92361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07284"/>
        <c:crosses val="autoZero"/>
        <c:auto val="1"/>
        <c:lblAlgn val="ctr"/>
        <c:lblOffset val="100"/>
        <c:noMultiLvlLbl val="0"/>
      </c:catAx>
      <c:valAx>
        <c:axId val="13507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61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FFB-AE52-49FA-820D-46A2804D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B26-C487-4B76-96A1-C474B76B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BBD-EA99-4631-B7CF-DD56365C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4A4-0755-4DE0-ACF8-227D9A0C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D7F-97BF-4ED1-B143-C569139A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C41-FA7D-4912-A7B5-B8EC98A8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378-B24B-4E69-BA4B-2B137D1C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E78-AC4C-4F5D-BE1F-3D9F017C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82C-5D8A-408E-9F7C-6411AB9D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4D3-E8E1-4E6C-BBF1-EF4D18CF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285-EC5B-4E6F-A5F4-BA12CDFF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E10-98E4-4816-B663-E1A0C083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49D84-F07B-488D-98B6-CDEC505769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