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377226"/>
        <c:axId val="97017568"/>
      </c:barChart>
      <c:catAx>
        <c:axId val="923772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017568"/>
        <c:crosses val="autoZero"/>
        <c:auto val="1"/>
        <c:lblAlgn val="ctr"/>
        <c:lblOffset val="100"/>
        <c:noMultiLvlLbl val="0"/>
      </c:catAx>
      <c:valAx>
        <c:axId val="970175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3772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B835-E775-4336-A218-D7C150B8A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7D3F-AA11-4BC1-938B-9108517D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59C5-5122-4A02-80B8-3873F4AB0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0482-3DB2-4AAC-A3E9-138985A61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6833-EE56-4074-ABDC-8AFEAA11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C235-5D93-446B-9A6F-CBEBF750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88D3-AA28-4DC7-8D11-55ED6987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80D6-6169-4CEE-AD49-E5889AC9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319F-D0B1-4035-AAC6-8DA1BDC6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4A73-885D-40E7-BB1B-A53A020D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0606-5E84-42D9-9260-0E2B60FA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A404-A4A6-4C44-9492-B6BD05D9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28F89B-BC37-40AE-B55B-D54ABBFE81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