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883980"/>
        <c:axId val="27000466"/>
      </c:barChart>
      <c:catAx>
        <c:axId val="288398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000466"/>
        <c:crosses val="autoZero"/>
        <c:auto val="1"/>
        <c:lblAlgn val="ctr"/>
        <c:lblOffset val="100"/>
        <c:noMultiLvlLbl val="0"/>
      </c:catAx>
      <c:valAx>
        <c:axId val="2700046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8398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223EE-6AE2-4F5A-8AF7-803736AD4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B50B7-721C-4214-9E06-23A4E917D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715BA-E9E7-469C-A8AF-73A862456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ABE3F-BC35-4BF1-BE13-F917EDB4E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AAEAC-3D7F-4C99-8A17-BB6BC146A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515E3-731B-4BF5-B689-39E7509D5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D7B20-8CD9-4067-824A-4F81EC9AD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AC870-0B2E-486E-85C4-930CBC8B8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0BC6D-36B5-489E-843A-914EDCE60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D47C2-3A80-4F62-9F63-D48C034AE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1041C-9029-489E-93B4-2C507B034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50A74-5FB0-41CD-BCF5-F8E7D1479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E556D8-0CF9-41DD-9B3D-1D8B8D092F5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