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3543"/>
        <c:axId val="31247667"/>
      </c:barChart>
      <c:catAx>
        <c:axId val="8373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47667"/>
        <c:crosses val="autoZero"/>
        <c:auto val="1"/>
        <c:lblAlgn val="ctr"/>
        <c:lblOffset val="100"/>
        <c:noMultiLvlLbl val="0"/>
      </c:catAx>
      <c:valAx>
        <c:axId val="312476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3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5D49-A218-4AE3-8E93-C552FC00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5E91-0B28-4B40-84BB-0E839BBA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DCF7-6D71-4EC5-9B4F-BCB01CC3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06CB-2D7B-4356-82D5-64D30A67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F41A-D858-4B1B-94EA-CDC77F2B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7050-5909-4C8C-A696-C29EB3C8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5CF-38FA-4D62-B016-D60F187D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1BC7-6A3B-4D3D-803D-BB550471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1F2-54B6-4765-9081-F576F24E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A573-D52C-498A-B501-098183C3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A152-0224-409B-9C6E-6CBF64C1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C8B7-30A7-4AFB-85C6-D4B2C8DA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30CAD-45AA-4EF9-830C-AB76C0AF71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