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89372"/>
        <c:axId val="10908853"/>
      </c:barChart>
      <c:catAx>
        <c:axId val="58289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08853"/>
        <c:crosses val="autoZero"/>
        <c:auto val="1"/>
        <c:lblAlgn val="ctr"/>
        <c:lblOffset val="100"/>
        <c:noMultiLvlLbl val="0"/>
      </c:catAx>
      <c:valAx>
        <c:axId val="10908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89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BA58-D375-4B8E-9D9D-52FECF22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A64-6FA9-4B9D-9203-7036C612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CF5-22DB-4DD1-94D7-FAA362C0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2DF-F37D-462C-8974-EB28CE8E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9AA-33DC-478E-8DD7-36DF2AD1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841-DA70-4F09-8BC0-6ECE671D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8AD-967C-4243-A860-530537EC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8F7-071F-498B-990B-7E438DA5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513-CC06-46B7-9B08-A9A1E3A0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370-7A61-419A-B087-6CE5DEBB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D7E-DC4A-4247-AF5F-F36150B3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E8BF-9877-4114-81C3-A9E4CB03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1D1E8-F6AA-4EF4-A46D-50C81EE98D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