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39234"/>
        <c:axId val="15314905"/>
      </c:barChart>
      <c:catAx>
        <c:axId val="92239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14905"/>
        <c:crosses val="autoZero"/>
        <c:auto val="1"/>
        <c:lblAlgn val="ctr"/>
        <c:lblOffset val="100"/>
        <c:noMultiLvlLbl val="0"/>
      </c:catAx>
      <c:valAx>
        <c:axId val="15314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39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E48-EA72-4EAD-8431-79EFBB67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753-178F-4DE4-AD47-16786537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743-43C0-4B33-962B-DCE5DA09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5E8-1330-4D74-B4B1-B86F1836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F91-9D0A-431E-A05E-45A8C1CF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11F-C80F-4E60-B215-1C499E98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970-8D15-4BE4-A453-227F9212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DFF-9513-42D6-966C-C8624256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074-0E7C-4391-AB90-07A4567A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44A-B786-4E8F-9863-FAAE4906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731-8D42-47DA-835C-7071BB41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B6A-2749-4884-9EC3-CCA3154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4A283-659B-47E1-A745-9151F2AB97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