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23002"/>
        <c:axId val="64836478"/>
      </c:barChart>
      <c:catAx>
        <c:axId val="18723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36478"/>
        <c:crosses val="autoZero"/>
        <c:auto val="1"/>
        <c:lblAlgn val="ctr"/>
        <c:lblOffset val="100"/>
        <c:noMultiLvlLbl val="0"/>
      </c:catAx>
      <c:valAx>
        <c:axId val="64836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23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90A-46C1-45F4-BC6D-E388E3A8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BD5-F77F-4A41-9182-DE2CCA4B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325-46D0-4DA0-9F11-DD86677F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84D-426E-4013-949D-E12F83CB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588-A282-4B0B-A0B2-44F76A6B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285-316E-495E-B785-DF5FD262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65B-808A-4549-8A73-B8546064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1EF-53AE-4B38-B5FF-F2FEFFFA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4FD-8AF8-4C21-8550-ECF7D4DF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00B-8BED-4499-B3FC-1B622600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679-71E9-47D3-9C8C-A79C751F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86F-8C63-44F6-83C9-16FC10D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C3E04-63DD-4129-97AD-19048AC5A0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