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70200"/>
        <c:axId val="37523059"/>
      </c:barChart>
      <c:catAx>
        <c:axId val="53070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23059"/>
        <c:crosses val="autoZero"/>
        <c:auto val="1"/>
        <c:lblAlgn val="ctr"/>
        <c:lblOffset val="100"/>
        <c:noMultiLvlLbl val="0"/>
      </c:catAx>
      <c:valAx>
        <c:axId val="37523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70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B19-A437-4668-B0AA-27B05CE2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60B-14D6-427C-BFC9-4A916F6C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34C-EB13-45FA-A081-9CD76C35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A1C-EA3B-4B4A-892B-2EB556BB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CB7-6551-4B19-A609-129B947F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98E-D13B-45F2-BFE6-CE7807B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2BC-BC5F-4973-A199-BFA65B78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EA0-22D4-4277-88D8-F87C95F1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279-09EF-4271-A23F-F2BE5EDD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66A-03BB-4245-8A6F-5F74EC12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07D-8C00-46D0-9131-E75895A0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1D9-E547-4362-8089-25A8368D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77A92-8A27-4E52-A8EA-C7EEB2B26A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