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3616"/>
        <c:axId val="85086945"/>
      </c:barChart>
      <c:catAx>
        <c:axId val="5923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86945"/>
        <c:crosses val="autoZero"/>
        <c:auto val="1"/>
        <c:lblAlgn val="ctr"/>
        <c:lblOffset val="100"/>
        <c:noMultiLvlLbl val="0"/>
      </c:catAx>
      <c:valAx>
        <c:axId val="85086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3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0D3-EC85-47A7-BB00-76E33FEE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ED0-D676-4926-BAE2-E9156B94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D0C-4708-45B3-986A-954C5F61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581-B878-4AAC-AF32-92DA70F4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7A4-854B-48BC-8E9C-BBE4BD3C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6CD-CC26-4E65-8629-2D16A3B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D93-C7B0-41C2-80C8-BE6B6728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230-9BC6-475F-B4A4-E8C51AE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4AA-BBBC-4D08-AAE1-9E59B4EF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1DF-3D8F-480E-92E4-5738250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92B-8498-4972-AB4E-A83EB0A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B40-9775-4B74-8F5F-D41FEA8C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1E95D-F813-42EF-9270-D85B68871B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