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50143"/>
        <c:axId val="96415460"/>
      </c:barChart>
      <c:catAx>
        <c:axId val="857501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15460"/>
        <c:crosses val="autoZero"/>
        <c:auto val="1"/>
        <c:lblAlgn val="ctr"/>
        <c:lblOffset val="100"/>
        <c:noMultiLvlLbl val="0"/>
      </c:catAx>
      <c:valAx>
        <c:axId val="96415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501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298-1EE1-4B49-A3F4-C455D057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DB7-D70C-412C-8CFA-F7B76C87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D32-2416-4794-BACB-94CF16E1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90C-2FA5-423F-AA7D-44A1ADEE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5052-CB04-4E4A-893E-25F29693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46E-FD68-40A3-96D7-FFFE9624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8B61-8CEB-4208-A480-8EF9EA3F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A69-5812-41A4-B3B9-8AA8B770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80E-2ABC-4DFA-9768-65E7F5DE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3965-6683-471E-9AB7-DDC86913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5E8-FDCF-49E0-89F6-5481EDED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41C-5772-4804-9B92-9F3F8492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7BBF4-14F3-443A-B9A2-E3A9A9A97E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