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29714"/>
        <c:axId val="74833449"/>
      </c:barChart>
      <c:catAx>
        <c:axId val="25329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3449"/>
        <c:crosses val="autoZero"/>
        <c:auto val="1"/>
        <c:lblAlgn val="ctr"/>
        <c:lblOffset val="100"/>
        <c:noMultiLvlLbl val="0"/>
      </c:catAx>
      <c:valAx>
        <c:axId val="74833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9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851-C85C-4FDF-949A-18613820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06E-8E9C-4DD2-891F-6030310D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E88-65F3-4C1F-B0E4-5C8666D0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520-1A4D-494B-8BF4-CFCD008E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43F-7988-4062-8807-764E5F8B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C6C-0BAD-48A5-9F5B-9A0A9C1D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703-BA69-447F-B83A-8CA329DF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1BB-506B-4F2D-BFDF-C5F9DAB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F46-2DFB-428C-9590-74BC5E2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B5D-3242-43D9-917E-CC77034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D0A-E0D3-4E3A-99F1-B3C39A2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D8C-6551-4E5A-8C11-FA4B992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5C881-0DE0-4BF6-8A39-9E76523BE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