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73165"/>
        <c:axId val="56625975"/>
      </c:barChart>
      <c:catAx>
        <c:axId val="96573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25975"/>
        <c:crosses val="autoZero"/>
        <c:auto val="1"/>
        <c:lblAlgn val="ctr"/>
        <c:lblOffset val="100"/>
        <c:noMultiLvlLbl val="0"/>
      </c:catAx>
      <c:valAx>
        <c:axId val="56625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73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F73-21BE-4D52-B0A1-2C96D8D1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089-BA1B-4335-AE01-EA709066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B70-D2D4-47DD-9E43-C3E54453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9CCE-6534-46D0-B91E-E06A043C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FF3-7299-4BF4-BADA-CD29C4A3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9B8-7DC2-4364-8403-495379AB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28B5-7B74-441B-8410-20F3EC98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A88D-C54C-4D54-91A6-5C1908D0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74FF-5090-4DF2-9DD5-0D695907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F65-16E0-4A59-AC8E-02C9EB7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CD3F-9839-4849-9509-AB38F6A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7551-9CF3-4AFC-8E3D-005A5F76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CB37D-B194-4079-9F00-E84012E503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