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93731"/>
        <c:axId val="34253735"/>
      </c:barChart>
      <c:catAx>
        <c:axId val="81393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53735"/>
        <c:crosses val="autoZero"/>
        <c:auto val="1"/>
        <c:lblAlgn val="ctr"/>
        <c:lblOffset val="100"/>
        <c:noMultiLvlLbl val="0"/>
      </c:catAx>
      <c:valAx>
        <c:axId val="34253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93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E8CB-A9B9-41DD-A237-7345DBD6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3C3-19F5-4729-8D88-387CA77D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E7F-D5B4-402D-A7B2-4CE50EED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15D-2D89-452B-B3E2-183BE320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DA0-86B0-40DA-9EEC-7E741491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B87-07FC-4F1E-B689-7DE9430B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ED16-7631-4D28-8F5D-C1CDB51B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3D7-2B5F-4A97-875A-DD62DEED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F1B-E50E-4A6C-9930-6316974B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E5C-C750-4791-A8C5-ED8BB8CC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C57-B8BE-4404-8971-1CE2E248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049-5366-4395-AE63-40C2F7F5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3CEE1-75CF-47B5-B94D-C9D5DAE5B2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