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257967"/>
        <c:axId val="20817048"/>
      </c:barChart>
      <c:catAx>
        <c:axId val="762579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17048"/>
        <c:crosses val="autoZero"/>
        <c:auto val="1"/>
        <c:lblAlgn val="ctr"/>
        <c:lblOffset val="100"/>
        <c:noMultiLvlLbl val="0"/>
      </c:catAx>
      <c:valAx>
        <c:axId val="208170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579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BE6E-BEC6-481F-B667-6CBB71EB9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7A3F-3B45-47CA-A588-688D2914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DD6F-4C4F-4311-ACC2-4B7D31D16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D982-AE7F-4DD2-85BB-E0EA886C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1A67-7D73-421D-AA47-26A1F20D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F10C-905A-4600-B4CD-EBCBBE00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7E79-3CB4-47EA-A80E-C2D946A4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2AAD-0CC8-4EDB-A65A-40EAA5B1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181B-9350-49CD-8132-771BA916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84F3-AD7E-46D8-90BE-54A8FCEC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961E-151A-4635-90AC-A76E235A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CD07-A557-47A3-AE96-CB4F3BDB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B459A-8659-4C8D-96B9-4A282914D5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