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40636"/>
        <c:axId val="9996975"/>
      </c:barChart>
      <c:catAx>
        <c:axId val="55940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6975"/>
        <c:crosses val="autoZero"/>
        <c:auto val="1"/>
        <c:lblAlgn val="ctr"/>
        <c:lblOffset val="100"/>
        <c:noMultiLvlLbl val="0"/>
      </c:catAx>
      <c:valAx>
        <c:axId val="9996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40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A303-0A18-4720-B32C-4ADCE296D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AF10-73C6-4B6D-AF10-2BD37FC6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931-2691-4116-9080-7F9E540F1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72B1-BA8A-4E90-AB96-C28F1FD2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0DEE-D838-4589-AB60-D1D72C81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4C5-3B53-4C4F-8B21-57C8F2FE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EC8-B025-4DE7-931F-9E355686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2B0-8D1D-4E95-A8FF-50FBFCB3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3F01-91BD-47F4-B0A4-8B6FE49C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5A8A-1643-44A4-9B8B-35E1701D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BD4-790E-4E10-AA21-C0F9EC14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01B-1D01-4928-9528-DDF09CF5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0D3C4-736E-4A82-94D2-7F2C550F47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