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95829"/>
        <c:axId val="6159299"/>
      </c:barChart>
      <c:catAx>
        <c:axId val="86958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59299"/>
        <c:crosses val="autoZero"/>
        <c:auto val="1"/>
        <c:lblAlgn val="ctr"/>
        <c:lblOffset val="100"/>
        <c:noMultiLvlLbl val="0"/>
      </c:catAx>
      <c:valAx>
        <c:axId val="61592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958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F49D-57B4-4148-BB74-D4C6DAE94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7007-5126-4F36-89E4-DDCFE076B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136E-701D-4EB2-865A-DC01B11B6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1C9F-E296-4583-BE8E-455CD8147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C718-BA0A-4006-9402-ECDD505AB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6F3C-D770-4026-A7D7-B58D92C73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BD91-8374-422C-AAE1-590549789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B3B5-F34F-4FD9-A6D7-BC0F32BB1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5036-BBA3-4139-AB0A-086A75D9B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4254-BD2B-4BE2-AB5F-47B7C3FC2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BE02-94D7-4709-A7E1-819C55526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7A12-B53E-4934-AD21-74553002E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462677-4FF6-4601-8F18-950CB818179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