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22642"/>
        <c:axId val="14421337"/>
      </c:barChart>
      <c:catAx>
        <c:axId val="3862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21337"/>
        <c:crosses val="autoZero"/>
        <c:auto val="1"/>
        <c:lblAlgn val="ctr"/>
        <c:lblOffset val="100"/>
        <c:noMultiLvlLbl val="0"/>
      </c:catAx>
      <c:valAx>
        <c:axId val="14421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2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0F7-6763-417D-B904-5F1174D8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668-D88A-47E4-8818-2167638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66A-CDA4-4840-9244-A69BA592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B4C-664D-4E78-9984-BF692ED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56C-604D-45BF-9655-E8613B0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C68-EC76-4C67-ACAB-98095054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56B-7C40-473B-8392-2E68932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A02-DF7C-4C98-8CCE-D2EF19D2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0A4-E486-4430-9821-C249450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10B-7A35-4917-B658-317B6C5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9EA-AA75-4EF9-8C48-B4DDA9A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44C-5E3D-499F-BF73-B049288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DE0A6-8CA4-4418-AD16-C569CCFC8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