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19475"/>
        <c:axId val="45918731"/>
      </c:barChart>
      <c:catAx>
        <c:axId val="591194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18731"/>
        <c:crosses val="autoZero"/>
        <c:auto val="1"/>
        <c:lblAlgn val="ctr"/>
        <c:lblOffset val="100"/>
        <c:noMultiLvlLbl val="0"/>
      </c:catAx>
      <c:valAx>
        <c:axId val="45918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194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5EA-83D5-413A-991D-C88C06A0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3B0-5858-48A7-945E-A3E86FFF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042-F757-46B9-9CBF-059D3C70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B66-DFE1-4079-BA7C-56D2BD94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876-F282-435D-8237-3F7FB012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AE7-9F47-4DF2-A130-E7F93B69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AE7-8719-413A-A0B2-9084D90B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64C-9839-4965-993B-A851EB7D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24F-7F9D-4810-8E80-A9DBE210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E09-BA9E-487A-92E0-4923214A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82A-1420-4C3D-883D-11FB983E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AF6E-8C85-4AD4-A182-CCD2F059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1F496-F7AB-49D6-8B0B-D295BF1821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