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559062"/>
        <c:axId val="15594985"/>
      </c:barChart>
      <c:catAx>
        <c:axId val="18559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94985"/>
        <c:crosses val="autoZero"/>
        <c:auto val="1"/>
        <c:lblAlgn val="ctr"/>
        <c:lblOffset val="100"/>
        <c:noMultiLvlLbl val="0"/>
      </c:catAx>
      <c:valAx>
        <c:axId val="155949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559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7B4-6214-4B5B-92C5-30F5607E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727-190F-46F1-A4FF-6150B938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05F6-D71C-409B-B06B-1E44C1D0D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AF30-5177-468C-A37B-BE9B0ACF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768-3359-46EE-BE21-BB9B1F77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466C-FA59-40B2-A892-2A6F727E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F967-D189-4B71-90BE-84D39827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DB7-96CD-4707-B051-0BE0FE9A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687-43E1-42B9-9872-12FDB484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435-868F-4D3B-888E-8BD62ECD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2DBD-4949-4EA1-8A36-2BC8BCF4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47F-EF3A-4084-9A4D-5DC3A119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5C9CB-48AE-492A-ACFE-78782F6528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