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91151"/>
        <c:axId val="81274410"/>
      </c:barChart>
      <c:catAx>
        <c:axId val="26891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74410"/>
        <c:crosses val="autoZero"/>
        <c:auto val="1"/>
        <c:lblAlgn val="ctr"/>
        <c:lblOffset val="100"/>
        <c:noMultiLvlLbl val="0"/>
      </c:catAx>
      <c:valAx>
        <c:axId val="81274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91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261-F045-4C0B-B5F8-B44E2495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581-932B-40A3-9701-B331CE84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5C4-3D63-4D8B-AD70-2F1A4EE5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B14-9868-40C6-93E7-5F4D6B30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34C-90EF-4849-B4B4-23F48CA2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45A-935E-4978-A956-B8E65E86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DBA-12B3-47D6-8ABA-07F28070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734-E68B-4654-AA7C-5D28A990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CB4-CA3C-4197-A0CE-A9D53A1D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F26-1D3A-494A-8FD1-088A45DC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B07-42F7-41E5-B89F-9442CE72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0EC-188B-4F68-90B1-8B290D9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50543-8DCE-4F7B-9E89-177655D462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