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10206"/>
        <c:axId val="29105580"/>
      </c:barChart>
      <c:catAx>
        <c:axId val="90710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05580"/>
        <c:crosses val="autoZero"/>
        <c:auto val="1"/>
        <c:lblAlgn val="ctr"/>
        <c:lblOffset val="100"/>
        <c:noMultiLvlLbl val="0"/>
      </c:catAx>
      <c:valAx>
        <c:axId val="29105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0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6EB-490F-4981-A4BC-9FA99EB0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D8F-3F06-47A2-BFE7-965A5C1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A24-B823-4B61-9CA6-CEE7E635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AA2-68AE-446E-80FE-C9747135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92B-92FB-436A-9774-AA8B94E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B9E-240E-4BD8-926B-DABB9CDE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616-B559-4758-BD87-9272E568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DFB-3508-4ECC-84EE-84000F50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E0A-3EDC-4F57-896D-E87AC3A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3FE-8619-450D-B3B0-381E696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02D-B5B6-4B0F-9B0C-CAF45010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5AE-A074-43EB-B021-A2A2754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1C0F0-AEDE-4F15-9855-F10111212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