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489702"/>
        <c:axId val="45489463"/>
      </c:barChart>
      <c:catAx>
        <c:axId val="674897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489463"/>
        <c:crosses val="autoZero"/>
        <c:auto val="1"/>
        <c:lblAlgn val="ctr"/>
        <c:lblOffset val="100"/>
        <c:noMultiLvlLbl val="0"/>
      </c:catAx>
      <c:valAx>
        <c:axId val="454894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4897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7D63-3A0C-47CF-8D75-F1244C6DB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CE0D-A7C3-43F8-A2EC-EE4076104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59CB-9886-4865-8AF5-540D959A7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B8E1-32C2-48B7-AA25-CAE3566D1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3AAF-6D7D-4203-9ED2-2A1C75977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8B25-94CA-497D-BEFB-87D5BC368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355D-3DFD-4965-A5C2-F44BF9C4D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337C-A527-414C-86B5-02B94B3C9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5111-E7D5-412F-88A3-F76614BC5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7DA2-22A2-46CA-9203-DF7742463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7EA2-608E-4B56-A1DD-28F57D21B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2F16-A0FA-44AE-982F-D10DBC90D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326204-0951-4CBD-8481-31BF4E27875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