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158044"/>
        <c:axId val="69376511"/>
      </c:barChart>
      <c:catAx>
        <c:axId val="611580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76511"/>
        <c:crosses val="autoZero"/>
        <c:auto val="1"/>
        <c:lblAlgn val="ctr"/>
        <c:lblOffset val="100"/>
        <c:noMultiLvlLbl val="0"/>
      </c:catAx>
      <c:valAx>
        <c:axId val="693765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1580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1A70-4657-4E05-9B5E-95C4CCA7F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D17D-04A0-4F40-AC63-879A1253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7C8E-7117-478B-883F-DA4C53B06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865C-34CD-4754-A61A-B2F6337FC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F6EB-5C66-46D5-9AA4-04D53C94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9EE7-3777-44BB-981C-67139B1C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9747-4F1E-40B9-9A72-2E9A4181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4935-A3FB-4918-8D07-824810F1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E72C-B963-4BEB-A7CD-606EFD2B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CCBE-6407-4DAF-B32E-2E87CFCB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CBAC-E8F1-4BAB-BD17-F9699A68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3AD1-3057-4826-A33F-74F14738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50176-DF45-4C9C-BA64-316A119067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