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02035"/>
        <c:axId val="27237303"/>
      </c:barChart>
      <c:catAx>
        <c:axId val="904020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37303"/>
        <c:crosses val="autoZero"/>
        <c:auto val="1"/>
        <c:lblAlgn val="ctr"/>
        <c:lblOffset val="100"/>
        <c:noMultiLvlLbl val="0"/>
      </c:catAx>
      <c:valAx>
        <c:axId val="27237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020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EC0-9610-49E1-9BB9-39AA4992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250-8F10-442E-BC48-3CC6B2B5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6ED-8400-46E2-B5EC-464BF0C1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2E5-DF88-49AF-A0EE-9EE65D67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33A-436A-420F-B911-81909FF4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39D-7AE5-4B40-BFB7-B6853BA2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FE1-837E-4365-9FEB-15866C61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D4F-1CFE-49AA-AA2D-41CFE617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A59-6765-499A-B65A-1CC0C00F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F3D-3D6B-4D7D-8238-A99ED51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9B1-FCD3-434D-B7E8-1F692571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8E4-20E8-4CE8-A396-EA9C6E3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A27D2-DA76-43B3-8322-C8359089BA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