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60117"/>
        <c:axId val="49905094"/>
      </c:barChart>
      <c:catAx>
        <c:axId val="65560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05094"/>
        <c:crosses val="autoZero"/>
        <c:auto val="1"/>
        <c:lblAlgn val="ctr"/>
        <c:lblOffset val="100"/>
        <c:noMultiLvlLbl val="0"/>
      </c:catAx>
      <c:valAx>
        <c:axId val="49905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60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86F-3FE4-4169-B68A-4574EB25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261-F67A-4EBA-80A3-498E3B87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E3D-DCA8-4DCE-AB61-8FE4FF1E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8CE-5DFB-42E9-AF0B-AF1E9123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3EC-D48F-4ADE-8008-763AB968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310-AAF9-4761-98D5-5D2227DA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8A6-3958-4574-A51F-E4126071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B86-B5F6-439F-B5CA-F6635FB2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6C79-601D-485D-AF4F-5EB6B4B1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F1D-1603-4E54-B107-09356336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D14-2BB4-4676-820B-06DEDB77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A01-3477-47FE-9EFC-B39208AC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6DAD0-B541-4F12-950C-EBD74AA6C4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