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45396"/>
        <c:axId val="78168668"/>
      </c:barChart>
      <c:catAx>
        <c:axId val="69245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68668"/>
        <c:crosses val="autoZero"/>
        <c:auto val="1"/>
        <c:lblAlgn val="ctr"/>
        <c:lblOffset val="100"/>
        <c:noMultiLvlLbl val="0"/>
      </c:catAx>
      <c:valAx>
        <c:axId val="78168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5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468-0FD1-40D6-91B8-448A8472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307-8850-4447-AC48-97223A91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5AC-1C6C-4EB4-B1BE-6E48152E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93C-8AC1-4C3A-A1CA-1460055A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809-4063-4BEE-9434-BD485A97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789-83A6-4B6C-95F4-F7B3532C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D4E-794D-4B5B-ADD0-BE86C3A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90E-C3A0-4D64-B6A1-15221049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D17-6E2C-4FF2-92CC-CB2FD7A8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91C-685C-48A2-B350-88210CDB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FC9-5304-40E7-9241-FB7C4352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624-6C76-454C-9147-0BA0472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860F1-6110-42DF-9FEA-A5225166B6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