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3133"/>
        <c:axId val="13977452"/>
      </c:barChart>
      <c:catAx>
        <c:axId val="5033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7452"/>
        <c:crosses val="autoZero"/>
        <c:auto val="1"/>
        <c:lblAlgn val="ctr"/>
        <c:lblOffset val="100"/>
        <c:noMultiLvlLbl val="0"/>
      </c:catAx>
      <c:valAx>
        <c:axId val="13977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3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4ED-3F3C-4BFB-B1E6-57DDA573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C73-9186-4D29-A3EC-9993E1B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02A-D72B-44AC-BC21-4C7C3619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974-AECB-43DD-AA6B-FF92EDAC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E41-E26A-431D-9DA6-01BF63BA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C65-982A-408E-B071-5E4D1450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EFD-9AAF-4EE4-BDC0-025F09F9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8B8-701E-4755-95CB-BC7E35BF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F87-F764-4389-9D77-132F4030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74F-FDCD-448D-A28E-98524F00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11A-1FAB-4696-9904-29F1989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751-D3AE-4957-B81B-90277E9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9C48F-0AC5-48EF-AFE0-ADA9025966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